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9F39-C3D9-4E91-AB24-C67F7F1B4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86389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3800" y="3942360"/>
            <a:ext cx="86389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8008-F986-49BD-84CC-5CC90B586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380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72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ED6B-23AB-45A7-97AE-8D70F67AD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4480" y="119664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5520" y="119664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53800" y="394236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4480" y="394236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5520" y="394236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2325-84FB-4F74-910C-271DD7DA3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3800" y="1196640"/>
            <a:ext cx="86389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86389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8200" y="358560"/>
            <a:ext cx="7454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380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53800" y="1196640"/>
            <a:ext cx="86389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7D70-920F-4A7A-8776-4BD2EBCE4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72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3800" y="3942360"/>
            <a:ext cx="86389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86389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3800" y="3942360"/>
            <a:ext cx="86389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380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72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4480" y="119664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5520" y="119664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3800" y="394236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4480" y="394236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5520" y="3942360"/>
            <a:ext cx="278136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86389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E34A-AAE3-4054-973F-E859D7931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F159-A9ED-4424-9237-E908B1BB0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6D36-463D-441C-B4CF-6E5BAF9EF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8200" y="358560"/>
            <a:ext cx="7454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693A-D367-4226-8634-81A784935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380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AF35-EF9E-4FE0-81A4-77AD53427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720" y="394236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1D09-D512-4867-81B2-739705175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380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720" y="1196640"/>
            <a:ext cx="4215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3800" y="3942360"/>
            <a:ext cx="86389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D125-10D0-4E2B-9E52-FD0CCB1CF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58920" y="277920"/>
            <a:ext cx="7885080" cy="82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3800" y="1196640"/>
            <a:ext cx="86389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5053680" y="-3812040"/>
            <a:ext cx="277920" cy="7902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18320" y="19080"/>
            <a:ext cx="1436760" cy="2412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0" y="6527880"/>
            <a:ext cx="9144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505360" y="6641640"/>
            <a:ext cx="3812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097C-91DC-40C9-B5B1-C2CA737378DD}" type="slidenum">
              <a:rPr b="0" lang="de-CH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469520" y="6656040"/>
            <a:ext cx="3429000" cy="1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6523200"/>
            <a:ext cx="12193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4480" y="5325840"/>
            <a:ext cx="5442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8120" y="179280"/>
            <a:ext cx="2073240" cy="316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bc-support.ch/" TargetMode="External"/><Relationship Id="rId2" Type="http://schemas.openxmlformats.org/officeDocument/2006/relationships/hyperlink" Target="mailto:pcdsupport@saia-burgess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74480" y="5325840"/>
            <a:ext cx="5442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Ether-S-Bus communication</a:t>
            </a:r>
            <a:br>
              <a:rPr sz="1800"/>
            </a:b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between 2 PCD’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019040" y="5935680"/>
            <a:ext cx="459756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66"/>
                </a:solidFill>
                <a:latin typeface="Arial"/>
              </a:rPr>
              <a:t>December 1st, 2006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6. Communication MASTER to MASTER ??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90760" y="1314360"/>
            <a:ext cx="1079640" cy="3589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03400" y="1944720"/>
            <a:ext cx="12600" cy="2700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41480" y="1673280"/>
            <a:ext cx="0" cy="271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3400" y="1944720"/>
            <a:ext cx="173808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29120" y="1959120"/>
            <a:ext cx="12600" cy="255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1673280"/>
            <a:ext cx="0" cy="271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067200" y="1944720"/>
            <a:ext cx="187452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37200" y="2214720"/>
            <a:ext cx="125856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E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1640" y="2214720"/>
            <a:ext cx="1258920" cy="10792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ASTER 1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93760" y="2001600"/>
            <a:ext cx="175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ther-S-Net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62560" y="3440160"/>
            <a:ext cx="830160" cy="3477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7360" y="3429000"/>
            <a:ext cx="839520" cy="3477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868400" y="3428640"/>
            <a:ext cx="2205000" cy="300240"/>
            <a:chOff x="1868400" y="3428640"/>
            <a:chExt cx="2205000" cy="300240"/>
          </a:xfrm>
        </p:grpSpPr>
        <p:sp>
          <p:nvSpPr>
            <p:cNvPr id="338" name=""/>
            <p:cNvSpPr/>
            <p:nvPr/>
          </p:nvSpPr>
          <p:spPr>
            <a:xfrm>
              <a:off x="1868400" y="3728880"/>
              <a:ext cx="22050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93760" y="342864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462560" y="3878280"/>
            <a:ext cx="830160" cy="3477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7360" y="3878280"/>
            <a:ext cx="809640" cy="3477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870200" y="3877920"/>
            <a:ext cx="2205000" cy="282960"/>
            <a:chOff x="1870200" y="3877920"/>
            <a:chExt cx="2205000" cy="282960"/>
          </a:xfrm>
        </p:grpSpPr>
        <p:sp>
          <p:nvSpPr>
            <p:cNvPr id="343" name=""/>
            <p:cNvSpPr/>
            <p:nvPr/>
          </p:nvSpPr>
          <p:spPr>
            <a:xfrm>
              <a:off x="1870200" y="4160880"/>
              <a:ext cx="22050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95560" y="387792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RECE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31640" y="3303720"/>
            <a:ext cx="1258920" cy="2735280"/>
          </a:xfrm>
          <a:prstGeom prst="rect">
            <a:avLst/>
          </a:prstGeom>
          <a:noFill/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37200" y="3303720"/>
            <a:ext cx="1258560" cy="2735280"/>
          </a:xfrm>
          <a:prstGeom prst="rect">
            <a:avLst/>
          </a:prstGeom>
          <a:noFill/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17920" y="4611600"/>
            <a:ext cx="830520" cy="3477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2720" y="4600440"/>
            <a:ext cx="839880" cy="3477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24120" y="4600080"/>
            <a:ext cx="2205000" cy="300600"/>
            <a:chOff x="1824120" y="4600080"/>
            <a:chExt cx="2205000" cy="300600"/>
          </a:xfrm>
        </p:grpSpPr>
        <p:sp>
          <p:nvSpPr>
            <p:cNvPr id="350" name=""/>
            <p:cNvSpPr/>
            <p:nvPr/>
          </p:nvSpPr>
          <p:spPr>
            <a:xfrm>
              <a:off x="1824120" y="4900680"/>
              <a:ext cx="2205000" cy="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49480" y="460008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417920" y="5049720"/>
            <a:ext cx="830520" cy="3477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2720" y="5049720"/>
            <a:ext cx="809640" cy="3477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825560" y="5049360"/>
            <a:ext cx="2205000" cy="282960"/>
            <a:chOff x="1825560" y="5049360"/>
            <a:chExt cx="2205000" cy="282960"/>
          </a:xfrm>
        </p:grpSpPr>
        <p:sp>
          <p:nvSpPr>
            <p:cNvPr id="355" name=""/>
            <p:cNvSpPr/>
            <p:nvPr/>
          </p:nvSpPr>
          <p:spPr>
            <a:xfrm>
              <a:off x="1825560" y="5332320"/>
              <a:ext cx="2205000" cy="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0920" y="504936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RECE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691240" y="3462480"/>
            <a:ext cx="2166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42000" y="4805280"/>
            <a:ext cx="18972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CV” F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91240" y="1438200"/>
            <a:ext cx="275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STER s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1240" y="2651040"/>
            <a:ext cx="275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see section 4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4. Define a MASTER station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37200" y="2224080"/>
            <a:ext cx="1258560" cy="10796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STER 2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61240" y="4091040"/>
            <a:ext cx="27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see section 5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961240" y="5397480"/>
            <a:ext cx="27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see section 5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1989000"/>
            <a:ext cx="2880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St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49840" y="4915080"/>
            <a:ext cx="179280" cy="1792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23760" y="5397480"/>
            <a:ext cx="179640" cy="1792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C53F-6971-47AE-9F3A-545BECF4AE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xit" presetID="8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500"/>
                            </p:stCondLst>
                            <p:childTnLst>
                              <p:par>
                                <p:cTn id="734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-0.4243 2.22222E-006 E">
                                      <p:cBhvr>
                                        <p:cTn id="73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7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500"/>
                            </p:stCondLst>
                            <p:childTnLst>
                              <p:par>
                                <p:cTn id="75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4500"/>
                            </p:stCondLst>
                            <p:childTnLst>
                              <p:par>
                                <p:cTn id="764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41597 -1.85185E-006 E">
                                      <p:cBhvr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3366"/>
                </a:solidFill>
                <a:latin typeface="Arial"/>
              </a:rPr>
              <a:t>7. Tes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4440" y="1769760"/>
            <a:ext cx="765828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this QUICK STA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" y="2168640"/>
            <a:ext cx="2616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you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4800" y="1393920"/>
            <a:ext cx="455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92360" y="4284720"/>
            <a:ext cx="1828800" cy="14079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516640" y="4238640"/>
            <a:ext cx="1828800" cy="140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637000" y="3938760"/>
            <a:ext cx="0" cy="704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62360" y="3384720"/>
            <a:ext cx="0" cy="564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6640" y="3949560"/>
            <a:ext cx="0" cy="693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92720" y="3384720"/>
            <a:ext cx="0" cy="564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62360" y="3949560"/>
            <a:ext cx="1754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637000" y="3938760"/>
            <a:ext cx="1753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92360" y="3654000"/>
            <a:ext cx="17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direc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thernet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97360" y="3654000"/>
            <a:ext cx="17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direc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thernet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86440" y="2889000"/>
            <a:ext cx="109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.NET-5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1160" y="5692320"/>
            <a:ext cx="109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D3.M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87640" y="5692320"/>
            <a:ext cx="109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D3.M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52960" y="24843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93FD-C4D1-43E4-B81D-9B82BEF7BF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8. Contact u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" y="1538280"/>
            <a:ext cx="36514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a-Burgess Controls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e de la Gare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-3280 Mor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4800" y="3743280"/>
            <a:ext cx="54072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6 / 672 71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x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6 / 672 74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bc-support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cdsupport@saia-burges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FD46-4366-4CD1-8432-92B6D3F2DF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04840"/>
            <a:ext cx="9144000" cy="5421240"/>
          </a:xfrm>
          <a:prstGeom prst="rect">
            <a:avLst/>
          </a:prstGeom>
          <a:solidFill>
            <a:srgbClr val="cad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ther-S-Bus communication between 2 PCD’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5240" y="1196640"/>
            <a:ext cx="86374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 How connect 2 PCD’s together ?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2. What to configure at first ?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3. Define a SLAVE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4. Define a MASTER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5. Communication MASTER to SLAVE ?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5.1 How to SEND data ?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5.2 How to RECEIVE data ?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6. Communication MASTER to MASTER ?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7. T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8. Contact 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27F9-57E8-4571-B35D-33E6402021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2360" y="4284720"/>
            <a:ext cx="1828800" cy="140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16640" y="4238640"/>
            <a:ext cx="1828800" cy="140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52960" y="24843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1. How connect 2 PCD’s together ??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4800" y="1769760"/>
            <a:ext cx="639792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rossed Ethernet cable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(1st possibil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87720" y="2665440"/>
            <a:ext cx="1079640" cy="719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4643280"/>
            <a:ext cx="1258920" cy="9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67560" y="4643280"/>
            <a:ext cx="1258560" cy="9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67000" y="5092560"/>
            <a:ext cx="250056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37000" y="3938760"/>
            <a:ext cx="0" cy="704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62360" y="3384720"/>
            <a:ext cx="0" cy="564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" y="2155680"/>
            <a:ext cx="73868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witch and 2 direct Ethernet cables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possibi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" y="1393920"/>
            <a:ext cx="1935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possi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76600" y="5151240"/>
            <a:ext cx="198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rossed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thernet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16640" y="3949560"/>
            <a:ext cx="0" cy="693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46280" y="2155680"/>
            <a:ext cx="3421080" cy="3703320"/>
            <a:chOff x="2546280" y="2155680"/>
            <a:chExt cx="3421080" cy="3703320"/>
          </a:xfrm>
        </p:grpSpPr>
        <p:sp>
          <p:nvSpPr>
            <p:cNvPr id="107" name=""/>
            <p:cNvSpPr/>
            <p:nvPr/>
          </p:nvSpPr>
          <p:spPr>
            <a:xfrm>
              <a:off x="2546280" y="2155680"/>
              <a:ext cx="1441440" cy="225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1640" y="4408560"/>
              <a:ext cx="2925720" cy="1450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92720" y="3384720"/>
            <a:ext cx="0" cy="564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62360" y="3949560"/>
            <a:ext cx="1754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37000" y="3938760"/>
            <a:ext cx="1753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08080" y="2438280"/>
            <a:ext cx="4950000" cy="2565360"/>
            <a:chOff x="2008080" y="2438280"/>
            <a:chExt cx="4950000" cy="2565360"/>
          </a:xfrm>
        </p:grpSpPr>
        <p:sp>
          <p:nvSpPr>
            <p:cNvPr id="113" name=""/>
            <p:cNvSpPr/>
            <p:nvPr/>
          </p:nvSpPr>
          <p:spPr>
            <a:xfrm>
              <a:off x="2008080" y="3294000"/>
              <a:ext cx="4950000" cy="170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1640" y="2438280"/>
              <a:ext cx="534960" cy="85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592360" y="3654000"/>
            <a:ext cx="17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direc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thernet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7360" y="3654000"/>
            <a:ext cx="17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direc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thernet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86440" y="2889000"/>
            <a:ext cx="109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.NET-5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1160" y="5692320"/>
            <a:ext cx="109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D3.M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87640" y="5692320"/>
            <a:ext cx="109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D3.M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4428-BDF1-47BE-B703-114BE58DD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8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2. What to configure at first ??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27720" y="4235400"/>
            <a:ext cx="1258560" cy="452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4240080"/>
            <a:ext cx="1258920" cy="44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4800" y="1769760"/>
            <a:ext cx="639792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bus station number/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" y="2136600"/>
            <a:ext cx="4822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address </a:t>
            </a: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( + Mask + default Gateway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" y="1393920"/>
            <a:ext cx="669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parameters </a:t>
            </a: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 Device Configurator in PG5 2.0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" y="2541600"/>
            <a:ext cx="1401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N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3490920"/>
            <a:ext cx="3286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th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(Device Configurator in PG5 2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462560"/>
            <a:ext cx="2565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Statio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46440" y="4914720"/>
            <a:ext cx="123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46440" y="5127120"/>
            <a:ext cx="178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addr. :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2.16.1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46440" y="5339880"/>
            <a:ext cx="178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157720" y="2665440"/>
            <a:ext cx="2548080" cy="1574640"/>
            <a:chOff x="5157720" y="2665440"/>
            <a:chExt cx="2548080" cy="1574640"/>
          </a:xfrm>
        </p:grpSpPr>
        <p:sp>
          <p:nvSpPr>
            <p:cNvPr id="133" name=""/>
            <p:cNvSpPr/>
            <p:nvPr/>
          </p:nvSpPr>
          <p:spPr>
            <a:xfrm>
              <a:off x="5877000" y="2665440"/>
              <a:ext cx="1079280" cy="71928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7720" y="3833640"/>
              <a:ext cx="12600" cy="406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7720" y="3384720"/>
              <a:ext cx="0" cy="448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70320" y="3833640"/>
              <a:ext cx="1157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93200" y="3828960"/>
              <a:ext cx="12600" cy="406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48400" y="3384720"/>
              <a:ext cx="0" cy="448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48400" y="3828960"/>
              <a:ext cx="1157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527720" y="4240080"/>
            <a:ext cx="1258560" cy="9003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L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11280" y="2136600"/>
            <a:ext cx="3375000" cy="2990880"/>
            <a:chOff x="2411280" y="2136600"/>
            <a:chExt cx="3375000" cy="2990880"/>
          </a:xfrm>
        </p:grpSpPr>
        <p:sp>
          <p:nvSpPr>
            <p:cNvPr id="142" name=""/>
            <p:cNvSpPr/>
            <p:nvPr/>
          </p:nvSpPr>
          <p:spPr>
            <a:xfrm>
              <a:off x="4302000" y="4915080"/>
              <a:ext cx="1484280" cy="21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11280" y="2136600"/>
              <a:ext cx="2135160" cy="277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2000" y="2460600"/>
            <a:ext cx="4475160" cy="2897280"/>
            <a:chOff x="1962000" y="2460600"/>
            <a:chExt cx="4475160" cy="2897280"/>
          </a:xfrm>
        </p:grpSpPr>
        <p:sp>
          <p:nvSpPr>
            <p:cNvPr id="145" name=""/>
            <p:cNvSpPr/>
            <p:nvPr/>
          </p:nvSpPr>
          <p:spPr>
            <a:xfrm>
              <a:off x="4370400" y="5127480"/>
              <a:ext cx="2066760" cy="2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2000" y="2460600"/>
              <a:ext cx="2408400" cy="276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36640" y="2933640"/>
            <a:ext cx="4049640" cy="2619360"/>
            <a:chOff x="1736640" y="2933640"/>
            <a:chExt cx="4049640" cy="2619360"/>
          </a:xfrm>
        </p:grpSpPr>
        <p:sp>
          <p:nvSpPr>
            <p:cNvPr id="148" name=""/>
            <p:cNvSpPr/>
            <p:nvPr/>
          </p:nvSpPr>
          <p:spPr>
            <a:xfrm>
              <a:off x="4302000" y="5340240"/>
              <a:ext cx="1484280" cy="212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36640" y="2933640"/>
              <a:ext cx="2565360" cy="254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41200" y="5340240"/>
            <a:ext cx="2392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the same for the Station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931080" y="4914720"/>
            <a:ext cx="1781280" cy="638640"/>
            <a:chOff x="6931080" y="4914720"/>
            <a:chExt cx="1781280" cy="638640"/>
          </a:xfrm>
        </p:grpSpPr>
        <p:sp>
          <p:nvSpPr>
            <p:cNvPr id="152" name=""/>
            <p:cNvSpPr/>
            <p:nvPr/>
          </p:nvSpPr>
          <p:spPr>
            <a:xfrm>
              <a:off x="6931080" y="4914720"/>
              <a:ext cx="123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bus no: 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1080" y="5127120"/>
              <a:ext cx="178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addr. : 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72.16.1.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1080" y="5339880"/>
              <a:ext cx="178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Node: 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093080" y="4227480"/>
            <a:ext cx="1258920" cy="900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LAVE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11280" y="5553000"/>
            <a:ext cx="432144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2790-8E78-45BE-A664-83A549530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100"/>
                            </p:stCondLst>
                            <p:childTnLst>
                              <p:par>
                                <p:cTn id="1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60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5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5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650"/>
                            </p:stCondLst>
                            <p:childTnLst>
                              <p:par>
                                <p:cTn id="225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650"/>
                            </p:stCondLst>
                            <p:childTnLst>
                              <p:par>
                                <p:cTn id="232" nodeType="afterEffect" fill="hold" presetClass="exit" presetID="8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65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3. Define a SLAVE st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4800" y="1769760"/>
            <a:ext cx="36720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hing have to be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" y="2112840"/>
            <a:ext cx="7116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ation of “Network Parameters” are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see section “2. What to configure at first ???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" y="1393920"/>
            <a:ext cx="455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E: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on Station 2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23000" y="4187880"/>
            <a:ext cx="12600" cy="406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76240" y="4847760"/>
            <a:ext cx="7466040" cy="639000"/>
            <a:chOff x="876240" y="4847760"/>
            <a:chExt cx="7466040" cy="639000"/>
          </a:xfrm>
        </p:grpSpPr>
        <p:grpSp>
          <p:nvGrpSpPr>
            <p:cNvPr id="163" name=""/>
            <p:cNvGrpSpPr/>
            <p:nvPr/>
          </p:nvGrpSpPr>
          <p:grpSpPr>
            <a:xfrm>
              <a:off x="876240" y="4847760"/>
              <a:ext cx="1781280" cy="638640"/>
              <a:chOff x="876240" y="4847760"/>
              <a:chExt cx="1781280" cy="638640"/>
            </a:xfrm>
          </p:grpSpPr>
          <p:sp>
            <p:nvSpPr>
              <p:cNvPr id="164" name=""/>
              <p:cNvSpPr/>
              <p:nvPr/>
            </p:nvSpPr>
            <p:spPr>
              <a:xfrm>
                <a:off x="876240" y="4847760"/>
                <a:ext cx="123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bus no: </a:t>
                </a: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6240" y="5060160"/>
                <a:ext cx="1781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addr. : </a:t>
                </a: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172.16.1.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76240" y="5272920"/>
                <a:ext cx="1781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Node: </a:t>
                </a: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561000" y="4847760"/>
              <a:ext cx="1781280" cy="639000"/>
              <a:chOff x="6561000" y="4847760"/>
              <a:chExt cx="1781280" cy="639000"/>
            </a:xfrm>
          </p:grpSpPr>
          <p:sp>
            <p:nvSpPr>
              <p:cNvPr id="168" name=""/>
              <p:cNvSpPr/>
              <p:nvPr/>
            </p:nvSpPr>
            <p:spPr>
              <a:xfrm>
                <a:off x="6561000" y="4847760"/>
                <a:ext cx="123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bus no: </a:t>
                </a:r>
                <a:r>
                  <a:rPr b="1" lang="en-US" sz="1400" spc="-1" strike="noStrike">
                    <a:solidFill>
                      <a:srgbClr val="006600"/>
                    </a:solidFill>
                    <a:latin typeface="Arial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61000" y="5060520"/>
                <a:ext cx="1781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addr. : </a:t>
                </a:r>
                <a:r>
                  <a:rPr b="1" lang="en-US" sz="1400" spc="-1" strike="noStrike">
                    <a:solidFill>
                      <a:srgbClr val="006600"/>
                    </a:solidFill>
                    <a:latin typeface="Arial"/>
                  </a:rPr>
                  <a:t>172.16.1.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61000" y="5273280"/>
                <a:ext cx="1781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Node: </a:t>
                </a:r>
                <a:r>
                  <a:rPr b="1" lang="en-US" sz="1400" spc="-1" strike="noStrike">
                    <a:solidFill>
                      <a:srgbClr val="006600"/>
                    </a:solidFill>
                    <a:latin typeface="Arial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670120" y="3024360"/>
            <a:ext cx="3794040" cy="2654280"/>
            <a:chOff x="2670120" y="3024360"/>
            <a:chExt cx="3794040" cy="2654280"/>
          </a:xfrm>
        </p:grpSpPr>
        <p:sp>
          <p:nvSpPr>
            <p:cNvPr id="172" name=""/>
            <p:cNvSpPr/>
            <p:nvPr/>
          </p:nvSpPr>
          <p:spPr>
            <a:xfrm>
              <a:off x="4006800" y="3024360"/>
              <a:ext cx="1079640" cy="7189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87880" y="4192560"/>
              <a:ext cx="12600" cy="406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57880" y="3743280"/>
              <a:ext cx="0" cy="4492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00480" y="4192560"/>
              <a:ext cx="1157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78200" y="3743280"/>
              <a:ext cx="0" cy="4492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78200" y="4187880"/>
              <a:ext cx="1157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70120" y="4599000"/>
              <a:ext cx="1258920" cy="107964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SLA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(Station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Bus No: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 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node: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 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05240" y="4599000"/>
              <a:ext cx="1258920" cy="1079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SLAVE</a:t>
              </a: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(Station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Bus No: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node: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2834-705F-4557-AA89-559F50F194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4. Define a MASTER st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4800" y="1769760"/>
            <a:ext cx="31118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à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PLA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" y="2112840"/>
            <a:ext cx="45514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SI Sbus IP Master”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" y="1393920"/>
            <a:ext cx="405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TER: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for example on 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35640" y="1798560"/>
            <a:ext cx="2143080" cy="100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34800" y="2530440"/>
            <a:ext cx="4686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him a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for example </a:t>
            </a: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aster_1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" y="2933640"/>
            <a:ext cx="53168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the correct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ann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available on the Ethernet Interface of the PCD3.Mxxx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888080" y="2303640"/>
            <a:ext cx="1304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5640" y="1889280"/>
            <a:ext cx="9907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146640" y="3249720"/>
            <a:ext cx="2552760" cy="2257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26360" y="4059360"/>
            <a:ext cx="755640" cy="225360"/>
          </a:xfrm>
          <a:prstGeom prst="rect">
            <a:avLst/>
          </a:prstGeom>
          <a:noFill/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020920" y="2707920"/>
            <a:ext cx="2206440" cy="135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020920" y="2068560"/>
            <a:ext cx="131436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26360" y="4778280"/>
            <a:ext cx="755640" cy="225360"/>
          </a:xfrm>
          <a:prstGeom prst="rect">
            <a:avLst/>
          </a:prstGeom>
          <a:noFill/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592360" y="3564000"/>
            <a:ext cx="4456080" cy="11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4284720"/>
            <a:ext cx="28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Station 1 is defined 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5133960"/>
            <a:ext cx="1258920" cy="107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762360" y="3564000"/>
            <a:ext cx="3164040" cy="2654280"/>
            <a:chOff x="3762360" y="3564000"/>
            <a:chExt cx="3164040" cy="2654280"/>
          </a:xfrm>
        </p:grpSpPr>
        <p:sp>
          <p:nvSpPr>
            <p:cNvPr id="198" name=""/>
            <p:cNvSpPr/>
            <p:nvPr/>
          </p:nvSpPr>
          <p:spPr>
            <a:xfrm>
              <a:off x="4481640" y="3564000"/>
              <a:ext cx="1079280" cy="71928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62360" y="4732200"/>
              <a:ext cx="12600" cy="406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32360" y="4283280"/>
              <a:ext cx="0" cy="448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74960" y="4732200"/>
              <a:ext cx="1157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97840" y="4727520"/>
              <a:ext cx="12600" cy="406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3040" y="4283280"/>
              <a:ext cx="0" cy="448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53040" y="4727520"/>
              <a:ext cx="1157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67480" y="5138640"/>
              <a:ext cx="1258920" cy="1079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SLAVE</a:t>
              </a:r>
              <a:r>
                <a:rPr b="0" lang="en-US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(Station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Bus No: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node: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4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132000" y="5133960"/>
            <a:ext cx="1258920" cy="107964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" y="3645000"/>
            <a:ext cx="342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all” + “Downlo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18E3-8AD8-48AB-A582-C90635612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5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50"/>
                            </p:stCondLst>
                            <p:childTnLst>
                              <p:par>
                                <p:cTn id="361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50"/>
                            </p:stCondLst>
                            <p:childTnLst>
                              <p:par>
                                <p:cTn id="365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munication MASTER to SLAVE ??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79600" y="1314360"/>
            <a:ext cx="5064480" cy="1979640"/>
            <a:chOff x="3279600" y="1314360"/>
            <a:chExt cx="5064480" cy="1979640"/>
          </a:xfrm>
        </p:grpSpPr>
        <p:sp>
          <p:nvSpPr>
            <p:cNvPr id="210" name=""/>
            <p:cNvSpPr/>
            <p:nvPr/>
          </p:nvSpPr>
          <p:spPr>
            <a:xfrm>
              <a:off x="7777080" y="1959120"/>
              <a:ext cx="12960" cy="255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279600" y="1314360"/>
              <a:ext cx="5064480" cy="1979640"/>
              <a:chOff x="3279600" y="1314360"/>
              <a:chExt cx="5064480" cy="19796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279600" y="1314360"/>
                <a:ext cx="5064480" cy="1979640"/>
                <a:chOff x="3279600" y="1314360"/>
                <a:chExt cx="5064480" cy="1979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8720" y="1314360"/>
                  <a:ext cx="1079640" cy="358920"/>
                </a:xfrm>
                <a:prstGeom prst="rect">
                  <a:avLst/>
                </a:prstGeom>
                <a:noFill/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Arial"/>
                    </a:rPr>
                    <a:t>Switc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51360" y="1944720"/>
                  <a:ext cx="12600" cy="27000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89440" y="1673280"/>
                  <a:ext cx="0" cy="27144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51360" y="1944720"/>
                  <a:ext cx="1738080" cy="93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10120" y="1673280"/>
                  <a:ext cx="0" cy="27144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5915160" y="1944720"/>
                  <a:ext cx="1874880" cy="93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085160" y="2214720"/>
                  <a:ext cx="1258920" cy="1079280"/>
                </a:xfrm>
                <a:prstGeom prst="rect">
                  <a:avLst/>
                </a:prstGeom>
                <a:noFill/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6600"/>
                      </a:solidFill>
                      <a:latin typeface="Arial"/>
                    </a:rPr>
                    <a:t>SLAVE</a:t>
                  </a:r>
                  <a:r>
                    <a:rPr b="0" lang="en-US" sz="2000" spc="-1" strike="noStrike">
                      <a:solidFill>
                        <a:srgbClr val="0066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Aft>
                      <a:spcPts val="34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808080"/>
                      </a:solidFill>
                      <a:latin typeface="Arial"/>
                    </a:rPr>
                    <a:t>(Station 2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Bus No:</a:t>
                  </a: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P node:</a:t>
                  </a: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279600" y="2214720"/>
                  <a:ext cx="1258920" cy="1079280"/>
                </a:xfrm>
                <a:prstGeom prst="rect">
                  <a:avLst/>
                </a:prstGeom>
                <a:noFill/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66ff"/>
                      </a:solidFill>
                      <a:latin typeface="Arial"/>
                    </a:rPr>
                    <a:t>MASTER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Aft>
                      <a:spcPts val="34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808080"/>
                      </a:solidFill>
                      <a:latin typeface="Arial"/>
                    </a:rPr>
                    <a:t>(Station 1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Bus No:</a:t>
                  </a: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 4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P node:</a:t>
                  </a: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 4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4941720" y="2001600"/>
                <a:ext cx="175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Arial"/>
                  </a:rPr>
                  <a:t>Ether-S-Net netwo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31640" y="3833640"/>
            <a:ext cx="2181240" cy="876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95360" y="5164200"/>
            <a:ext cx="2619360" cy="695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92000" y="2214720"/>
            <a:ext cx="2143440" cy="1009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4800" y="1393920"/>
            <a:ext cx="392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ox’s to use: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in the MASTER s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4800" y="1917720"/>
            <a:ext cx="3246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SI Sbus MASTER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" y="3417840"/>
            <a:ext cx="2167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920" y="4761000"/>
            <a:ext cx="1896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CV” F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3280" y="4079880"/>
            <a:ext cx="874800" cy="3477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46640" y="4068720"/>
            <a:ext cx="900000" cy="3477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16360" y="4068360"/>
            <a:ext cx="2205000" cy="300600"/>
            <a:chOff x="4716360" y="4068360"/>
            <a:chExt cx="2205000" cy="300600"/>
          </a:xfrm>
        </p:grpSpPr>
        <p:sp>
          <p:nvSpPr>
            <p:cNvPr id="232" name=""/>
            <p:cNvSpPr/>
            <p:nvPr/>
          </p:nvSpPr>
          <p:spPr>
            <a:xfrm>
              <a:off x="4716360" y="4368960"/>
              <a:ext cx="22050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41720" y="406836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SEND 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253280" y="5376960"/>
            <a:ext cx="830160" cy="347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46640" y="5376960"/>
            <a:ext cx="809280" cy="34740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718160" y="5376600"/>
            <a:ext cx="2205000" cy="282960"/>
            <a:chOff x="4718160" y="5376600"/>
            <a:chExt cx="2205000" cy="282960"/>
          </a:xfrm>
        </p:grpSpPr>
        <p:sp>
          <p:nvSpPr>
            <p:cNvPr id="237" name=""/>
            <p:cNvSpPr/>
            <p:nvPr/>
          </p:nvSpPr>
          <p:spPr>
            <a:xfrm>
              <a:off x="4718160" y="5659560"/>
              <a:ext cx="22050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43520" y="537660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RECEIVE 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279600" y="3303720"/>
            <a:ext cx="1258920" cy="2916000"/>
          </a:xfrm>
          <a:prstGeom prst="rect">
            <a:avLst/>
          </a:prstGeom>
          <a:noFill/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5160" y="3303720"/>
            <a:ext cx="1258920" cy="2916000"/>
          </a:xfrm>
          <a:prstGeom prst="rect">
            <a:avLst/>
          </a:prstGeom>
          <a:noFill/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84680" y="4419720"/>
            <a:ext cx="179280" cy="179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7800" y="5724360"/>
            <a:ext cx="179280" cy="1796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9600" y="2214720"/>
            <a:ext cx="1258920" cy="10792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B93F-F563-4035-B07B-36B95711B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L 0.41597 -7.40741E-007 E">
                                      <p:cBhvr>
                                        <p:cTn id="435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-0.42431 -3.33333E-006 E">
                                      <p:cBhvr>
                                        <p:cTn id="484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3366"/>
                </a:solidFill>
                <a:latin typeface="Arial"/>
              </a:rPr>
              <a:t>5.1.  How to SEND data ??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38720" y="1314360"/>
            <a:ext cx="1079640" cy="3589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1360" y="1944720"/>
            <a:ext cx="12600" cy="2700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89440" y="1673280"/>
            <a:ext cx="0" cy="271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1360" y="1944720"/>
            <a:ext cx="173808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77080" y="1959120"/>
            <a:ext cx="12960" cy="255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10120" y="1673280"/>
            <a:ext cx="0" cy="271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915160" y="1944720"/>
            <a:ext cx="187488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85160" y="2214720"/>
            <a:ext cx="1258920" cy="10792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LAVE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9600" y="2214720"/>
            <a:ext cx="1258920" cy="10792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53280" y="4079880"/>
            <a:ext cx="874800" cy="3477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46640" y="4068720"/>
            <a:ext cx="900000" cy="3477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41720" y="2001600"/>
            <a:ext cx="175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ther-S-Net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716360" y="4068360"/>
            <a:ext cx="2205000" cy="300600"/>
            <a:chOff x="4716360" y="4068360"/>
            <a:chExt cx="2205000" cy="300600"/>
          </a:xfrm>
        </p:grpSpPr>
        <p:sp>
          <p:nvSpPr>
            <p:cNvPr id="258" name=""/>
            <p:cNvSpPr/>
            <p:nvPr/>
          </p:nvSpPr>
          <p:spPr>
            <a:xfrm>
              <a:off x="4716360" y="4368960"/>
              <a:ext cx="22050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1720" y="406836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SEND 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9200" y="3843360"/>
            <a:ext cx="2181240" cy="8762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16280" y="1089000"/>
            <a:ext cx="2391120" cy="2905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085160" y="3303720"/>
            <a:ext cx="1258920" cy="2420640"/>
          </a:xfrm>
          <a:prstGeom prst="rect">
            <a:avLst/>
          </a:prstGeom>
          <a:noFill/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9600" y="3303720"/>
            <a:ext cx="1258920" cy="2420640"/>
          </a:xfrm>
          <a:prstGeom prst="rect">
            <a:avLst/>
          </a:prstGeom>
          <a:noFill/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3640" y="3224160"/>
            <a:ext cx="18176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 MASTER stati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 the same Fupl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92000" y="3989520"/>
            <a:ext cx="3463920" cy="865080"/>
            <a:chOff x="792000" y="3989520"/>
            <a:chExt cx="3463920" cy="865080"/>
          </a:xfrm>
        </p:grpSpPr>
        <p:sp>
          <p:nvSpPr>
            <p:cNvPr id="266" name=""/>
            <p:cNvSpPr/>
            <p:nvPr/>
          </p:nvSpPr>
          <p:spPr>
            <a:xfrm>
              <a:off x="792000" y="4208400"/>
              <a:ext cx="765360" cy="438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90920" y="3989520"/>
              <a:ext cx="765000" cy="438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76280" y="4419720"/>
              <a:ext cx="2295720" cy="434880"/>
            </a:xfrm>
            <a:custGeom>
              <a:avLst/>
              <a:gdLst/>
              <a:ahLst/>
              <a:rect l="l" t="t" r="r" b="b"/>
              <a:pathLst>
                <a:path w="1446" h="274">
                  <a:moveTo>
                    <a:pt x="0" y="113"/>
                  </a:moveTo>
                  <a:cubicBezTo>
                    <a:pt x="319" y="193"/>
                    <a:pt x="638" y="274"/>
                    <a:pt x="879" y="255"/>
                  </a:cubicBezTo>
                  <a:cubicBezTo>
                    <a:pt x="1120" y="236"/>
                    <a:pt x="1352" y="42"/>
                    <a:pt x="144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192720" y="3303720"/>
            <a:ext cx="1890720" cy="1170000"/>
            <a:chOff x="6192720" y="3303720"/>
            <a:chExt cx="1890720" cy="1170000"/>
          </a:xfrm>
        </p:grpSpPr>
        <p:sp>
          <p:nvSpPr>
            <p:cNvPr id="270" name=""/>
            <p:cNvSpPr/>
            <p:nvPr/>
          </p:nvSpPr>
          <p:spPr>
            <a:xfrm>
              <a:off x="7389720" y="4068720"/>
              <a:ext cx="693720" cy="4050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92720" y="3303720"/>
              <a:ext cx="506520" cy="350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6699240" y="3654000"/>
              <a:ext cx="690480" cy="5540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766880" y="1044720"/>
            <a:ext cx="2625840" cy="2879640"/>
          </a:xfrm>
          <a:custGeom>
            <a:avLst/>
            <a:gdLst/>
            <a:ahLst/>
            <a:rect l="l" t="t" r="r" b="b"/>
            <a:pathLst>
              <a:path w="1654" h="1814">
                <a:moveTo>
                  <a:pt x="236" y="1814"/>
                </a:moveTo>
                <a:cubicBezTo>
                  <a:pt x="118" y="1190"/>
                  <a:pt x="0" y="566"/>
                  <a:pt x="236" y="283"/>
                </a:cubicBezTo>
                <a:cubicBezTo>
                  <a:pt x="472" y="0"/>
                  <a:pt x="1418" y="141"/>
                  <a:pt x="1654" y="1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84680" y="4383000"/>
            <a:ext cx="179280" cy="1796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84680" y="4562640"/>
            <a:ext cx="179280" cy="179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800" y="1393920"/>
            <a:ext cx="1806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bo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871640" y="1719360"/>
            <a:ext cx="5041800" cy="2409840"/>
            <a:chOff x="1871640" y="1719360"/>
            <a:chExt cx="5041800" cy="2409840"/>
          </a:xfrm>
        </p:grpSpPr>
        <p:sp>
          <p:nvSpPr>
            <p:cNvPr id="278" name=""/>
            <p:cNvSpPr/>
            <p:nvPr/>
          </p:nvSpPr>
          <p:spPr>
            <a:xfrm>
              <a:off x="1871640" y="3859200"/>
              <a:ext cx="720720" cy="270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92720" y="2146320"/>
              <a:ext cx="720720" cy="13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68360" y="1719360"/>
              <a:ext cx="3924360" cy="2158920"/>
            </a:xfrm>
            <a:custGeom>
              <a:avLst/>
              <a:gdLst/>
              <a:ahLst/>
              <a:rect l="l" t="t" r="r" b="b"/>
              <a:pathLst>
                <a:path w="2472" h="1360">
                  <a:moveTo>
                    <a:pt x="204" y="1360"/>
                  </a:moveTo>
                  <a:cubicBezTo>
                    <a:pt x="102" y="1017"/>
                    <a:pt x="0" y="675"/>
                    <a:pt x="90" y="453"/>
                  </a:cubicBezTo>
                  <a:cubicBezTo>
                    <a:pt x="180" y="231"/>
                    <a:pt x="345" y="56"/>
                    <a:pt x="742" y="28"/>
                  </a:cubicBezTo>
                  <a:cubicBezTo>
                    <a:pt x="1139" y="0"/>
                    <a:pt x="1805" y="141"/>
                    <a:pt x="2472" y="2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79600" y="2214720"/>
            <a:ext cx="1258920" cy="10792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3140-24B8-47E3-A764-13C2FB5CD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L 0.41597 -7.40741E-007 E">
                                      <p:cBhvr>
                                        <p:cTn id="513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0.41597 -3.33333E-006 E">
                                      <p:cBhvr>
                                        <p:cTn id="579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8200" y="358560"/>
            <a:ext cx="7454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5.2 </a:t>
            </a:r>
            <a:r>
              <a:rPr b="1" lang="de-CH" sz="2400" spc="-1" strike="noStrike">
                <a:solidFill>
                  <a:srgbClr val="003366"/>
                </a:solidFill>
                <a:latin typeface="Arial"/>
              </a:rPr>
              <a:t>How to RECEIVE data ??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38720" y="1314360"/>
            <a:ext cx="1079640" cy="3589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1360" y="1944720"/>
            <a:ext cx="12600" cy="2700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89440" y="1673280"/>
            <a:ext cx="0" cy="271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1360" y="1944720"/>
            <a:ext cx="173808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77080" y="1959120"/>
            <a:ext cx="12960" cy="255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10120" y="1673280"/>
            <a:ext cx="0" cy="271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15160" y="1944720"/>
            <a:ext cx="187488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85160" y="2214720"/>
            <a:ext cx="1258920" cy="10792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LAVE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9600" y="2214720"/>
            <a:ext cx="1258920" cy="10792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3280" y="4869000"/>
            <a:ext cx="830160" cy="347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46640" y="4869000"/>
            <a:ext cx="809280" cy="34740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41720" y="2001600"/>
            <a:ext cx="175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ther-S-Net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718160" y="4868640"/>
            <a:ext cx="2205000" cy="282960"/>
            <a:chOff x="4718160" y="4868640"/>
            <a:chExt cx="2205000" cy="282960"/>
          </a:xfrm>
        </p:grpSpPr>
        <p:sp>
          <p:nvSpPr>
            <p:cNvPr id="296" name=""/>
            <p:cNvSpPr/>
            <p:nvPr/>
          </p:nvSpPr>
          <p:spPr>
            <a:xfrm>
              <a:off x="4718160" y="5151600"/>
              <a:ext cx="22050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43520" y="4868640"/>
              <a:ext cx="175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RECEIVE 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60360" y="4719600"/>
            <a:ext cx="2619360" cy="695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085160" y="3303720"/>
            <a:ext cx="1258920" cy="2420640"/>
          </a:xfrm>
          <a:prstGeom prst="rect">
            <a:avLst/>
          </a:prstGeom>
          <a:noFill/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9600" y="3303720"/>
            <a:ext cx="1258920" cy="2420640"/>
          </a:xfrm>
          <a:prstGeom prst="rect">
            <a:avLst/>
          </a:prstGeom>
          <a:noFill/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9520" y="4218120"/>
            <a:ext cx="1915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 MASTER stati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 the same Fupl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97800" y="5229360"/>
            <a:ext cx="179280" cy="179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81040" y="1314360"/>
            <a:ext cx="2955960" cy="3375000"/>
          </a:xfrm>
          <a:custGeom>
            <a:avLst/>
            <a:gdLst/>
            <a:ahLst/>
            <a:rect l="l" t="t" r="r" b="b"/>
            <a:pathLst>
              <a:path w="1862" h="2126">
                <a:moveTo>
                  <a:pt x="218" y="2126"/>
                </a:moveTo>
                <a:cubicBezTo>
                  <a:pt x="109" y="1424"/>
                  <a:pt x="0" y="722"/>
                  <a:pt x="274" y="368"/>
                </a:cubicBezTo>
                <a:cubicBezTo>
                  <a:pt x="548" y="14"/>
                  <a:pt x="1205" y="7"/>
                  <a:pt x="1862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457360" y="4869000"/>
            <a:ext cx="1754280" cy="415800"/>
            <a:chOff x="2457360" y="4869000"/>
            <a:chExt cx="1754280" cy="415800"/>
          </a:xfrm>
        </p:grpSpPr>
        <p:sp>
          <p:nvSpPr>
            <p:cNvPr id="305" name=""/>
            <p:cNvSpPr/>
            <p:nvPr/>
          </p:nvSpPr>
          <p:spPr>
            <a:xfrm>
              <a:off x="2457360" y="4869000"/>
              <a:ext cx="522360" cy="360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46640" y="4869000"/>
              <a:ext cx="765000" cy="41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9720" y="5081760"/>
              <a:ext cx="4669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21320" y="1166760"/>
            <a:ext cx="2381040" cy="293364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6192720" y="3429000"/>
            <a:ext cx="1665360" cy="1787400"/>
            <a:chOff x="6192720" y="3429000"/>
            <a:chExt cx="1665360" cy="1787400"/>
          </a:xfrm>
        </p:grpSpPr>
        <p:sp>
          <p:nvSpPr>
            <p:cNvPr id="310" name=""/>
            <p:cNvSpPr/>
            <p:nvPr/>
          </p:nvSpPr>
          <p:spPr>
            <a:xfrm>
              <a:off x="7335720" y="4856040"/>
              <a:ext cx="522360" cy="360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720" y="3429000"/>
              <a:ext cx="506520" cy="314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97800" y="3743280"/>
              <a:ext cx="637920" cy="1338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34800" y="1393920"/>
            <a:ext cx="1806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CV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8080" y="5273640"/>
            <a:ext cx="179640" cy="179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192720" y="2754360"/>
            <a:ext cx="2051280" cy="674640"/>
            <a:chOff x="6192720" y="2754360"/>
            <a:chExt cx="2051280" cy="674640"/>
          </a:xfrm>
        </p:grpSpPr>
        <p:sp>
          <p:nvSpPr>
            <p:cNvPr id="316" name=""/>
            <p:cNvSpPr/>
            <p:nvPr/>
          </p:nvSpPr>
          <p:spPr>
            <a:xfrm>
              <a:off x="7002360" y="2754360"/>
              <a:ext cx="1241640" cy="549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92720" y="3114720"/>
              <a:ext cx="506520" cy="314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699240" y="3024360"/>
              <a:ext cx="309600" cy="806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11280" y="1665360"/>
            <a:ext cx="5402160" cy="3338280"/>
            <a:chOff x="1511280" y="1665360"/>
            <a:chExt cx="5402160" cy="3338280"/>
          </a:xfrm>
        </p:grpSpPr>
        <p:sp>
          <p:nvSpPr>
            <p:cNvPr id="320" name=""/>
            <p:cNvSpPr/>
            <p:nvPr/>
          </p:nvSpPr>
          <p:spPr>
            <a:xfrm>
              <a:off x="1511280" y="4734000"/>
              <a:ext cx="720720" cy="269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92720" y="2214720"/>
              <a:ext cx="720720" cy="134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06640" y="1665360"/>
              <a:ext cx="4186080" cy="3068640"/>
            </a:xfrm>
            <a:custGeom>
              <a:avLst/>
              <a:gdLst/>
              <a:ahLst/>
              <a:rect l="l" t="t" r="r" b="b"/>
              <a:pathLst>
                <a:path w="2637" h="1933">
                  <a:moveTo>
                    <a:pt x="0" y="1933"/>
                  </a:moveTo>
                  <a:cubicBezTo>
                    <a:pt x="19" y="1314"/>
                    <a:pt x="38" y="695"/>
                    <a:pt x="227" y="374"/>
                  </a:cubicBezTo>
                  <a:cubicBezTo>
                    <a:pt x="416" y="53"/>
                    <a:pt x="732" y="10"/>
                    <a:pt x="1134" y="5"/>
                  </a:cubicBezTo>
                  <a:cubicBezTo>
                    <a:pt x="1536" y="0"/>
                    <a:pt x="2086" y="173"/>
                    <a:pt x="2637" y="34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279600" y="2214720"/>
            <a:ext cx="1258920" cy="10792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tatio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s No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ode: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PowerPoint Slides - Explan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6FB7-7297-43FE-969D-981CE4539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-0.42431 -3.33333E-006 E">
                                      <p:cBhvr>
                                        <p:cTn id="608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8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-0.42431 -3.33333E-006 E">
                                      <p:cBhvr>
                                        <p:cTn id="681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19:28:34Z</dcterms:created>
  <dc:creator>Sandra Hofer</dc:creator>
  <dc:description/>
  <dc:language>en-US</dc:language>
  <cp:lastModifiedBy>Ki Sorakann 495</cp:lastModifiedBy>
  <dcterms:modified xsi:type="dcterms:W3CDTF">2010-01-15T11:29:16Z</dcterms:modified>
  <cp:revision>142</cp:revision>
  <dc:subject/>
  <dc:title>Folie 1</dc:title>
</cp:coreProperties>
</file>